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253163" cy="9612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3.xml"/><Relationship Id="rId6" Type="http://schemas.openxmlformats.org/officeDocument/2006/relationships/slide" Target="slide1.xml"/><Relationship Id="rId7" Type="http://schemas.openxmlformats.org/officeDocument/2006/relationships/slide" Target="slide2.xml"/><Relationship Id="rId8" Type="http://schemas.openxmlformats.org/officeDocument/2006/relationships/slide" Target="slide4.xml"/><Relationship Id="rId9" Type="http://schemas.openxmlformats.org/officeDocument/2006/relationships/slide" Target="slide4.xml"/><Relationship Id="rId10" Type="http://schemas.openxmlformats.org/officeDocument/2006/relationships/slide" Target="slide5.xml"/><Relationship Id="rId11" Type="http://schemas.openxmlformats.org/officeDocument/2006/relationships/slide" Target="slide10.xml"/><Relationship Id="rId1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1.xml"/><Relationship Id="rId8" Type="http://schemas.openxmlformats.org/officeDocument/2006/relationships/slide" Target="slide2.xml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0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8.xml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utturgor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8" idx="3"/>
            <a:endCxn id="100" idx="1"/>
          </p:cNvCxnSpPr>
          <p:nvPr/>
        </p:nvCxnSpPr>
        <p:spPr>
          <a:xfrm flipV="1">
            <a:off x="3313080" y="4080600"/>
            <a:ext cx="2699280" cy="180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889920" y="54936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utturgor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generalisiert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Ö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Gefäß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urchlässigkeit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Verlust üb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die Nie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6" idx="3"/>
            <a:endCxn id="157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60" name=""/>
          <p:cNvCxnSpPr>
            <a:stCxn id="156" idx="3"/>
            <a:endCxn id="158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61" name=""/>
          <p:cNvSpPr/>
          <p:nvPr/>
        </p:nvSpPr>
        <p:spPr>
          <a:xfrm>
            <a:off x="1043280" y="549360"/>
            <a:ext cx="61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autturgor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generalisiertes Ödem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onkotischer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 Sog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Hypoalbumin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4" idx="3"/>
            <a:endCxn id="165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6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efäß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durchlässigkeit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43280" y="549360"/>
            <a:ext cx="61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autturgor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generalisiertes Ödem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onkotischer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 Sog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ypoalbumin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Verlus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Gefäßdurchlässigkeit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31400" y="549360"/>
            <a:ext cx="68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utturgor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generalisiertes Ödem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onkotischer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 Sog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ypoalbumin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Verlus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Gefäßdurchlässigkeit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68" idx="3"/>
            <a:endCxn id="171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71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P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ishmani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6396840"/>
            <a:ext cx="30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P = feline infektiöse Peritoniti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5" idx="3"/>
            <a:endCxn id="176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lust üb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e Nie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oteinur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5200" y="549360"/>
            <a:ext cx="794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Hautturgor ↑ &gt; generalisiertes Ödem &gt; onkotischer Sog ↓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Hypoalbuminämie &gt; Verlust &gt; Gefäßdurchlässigkeit ↑ &gt; Verlust über d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Nie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eneralisier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7720" y="549360"/>
            <a:ext cx="70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autturgor ↑ &gt; generalisiertes Ödem &gt; generalisierte 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79" idx="3"/>
            <a:endCxn id="18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8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IP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eishmani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0920" y="6396840"/>
            <a:ext cx="30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P = feline infektiöse Peritoniti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eneralisiert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Ö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3" idx="3"/>
            <a:endCxn id="105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6" name=""/>
          <p:cNvCxnSpPr>
            <a:stCxn id="103" idx="3"/>
            <a:endCxn id="107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generalisier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3" idx="3"/>
            <a:endCxn id="108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7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onkotischer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 So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ydrostatisch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Druck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67320" y="549360"/>
            <a:ext cx="386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autturgor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generalisiertes Ö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drostatisch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ruck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12" idx="3"/>
            <a:endCxn id="114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5" name=""/>
          <p:cNvCxnSpPr>
            <a:stCxn id="112" idx="3"/>
            <a:endCxn id="116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4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to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erzinsuffizi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75680" y="549360"/>
            <a:ext cx="65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utturgor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generalisiertes Ödem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hydrostatischer Druck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20" idx="3"/>
            <a:endCxn id="121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onkotischer So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44000" y="549360"/>
            <a:ext cx="59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utturgor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generalisiertes Ödem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onkotischer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 So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ypoalbumi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7" idx="3"/>
            <a:endCxn id="124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93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28" name=""/>
          <p:cNvCxnSpPr>
            <a:stCxn id="127" idx="3"/>
            <a:endCxn id="125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93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1043280" y="549360"/>
            <a:ext cx="61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autturgor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generalisiertes Ödem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onkotischer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 Sog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ypoalbumi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oalbumi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ynthese i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er Leber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31" idx="3"/>
            <a:endCxn id="134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35" name=""/>
          <p:cNvCxnSpPr>
            <a:stCxn id="131" idx="3"/>
            <a:endCxn id="132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oteinaufnahm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über die Nahr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nicht relevant bei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leintier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43280" y="549360"/>
            <a:ext cx="61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autturgor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generalisiertes Ödem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onkotischer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 Sog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ypoalbumin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ynthese i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r Leber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Leberfunktions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38" idx="3"/>
            <a:endCxn id="141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42" name=""/>
          <p:cNvCxnSpPr>
            <a:stCxn id="138" idx="3"/>
            <a:endCxn id="139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43" name=""/>
          <p:cNvSpPr/>
          <p:nvPr/>
        </p:nvSpPr>
        <p:spPr>
          <a:xfrm>
            <a:off x="1043280" y="549360"/>
            <a:ext cx="61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autturgor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generalisiertes Ödem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onkotischer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 Sog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ypoalbumin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Bildung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ynthese in der Leber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Umgeh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Leb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46" idx="3"/>
            <a:endCxn id="147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4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mgeh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b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rtosystemisch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hun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31760" y="549360"/>
            <a:ext cx="775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utturgor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generalisiertes Ödem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onkotischer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 Sog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ypoalbumin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Bildung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ynthese in der Leber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Umgeh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Leb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berfunktions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43280" y="549360"/>
            <a:ext cx="613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utturgor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generalisiertes Ödem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onkotischer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 Sog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ypoalbumin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Bildung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ynthese in der Leber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Leberfunktions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50" idx="3"/>
            <a:endCxn id="153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53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eberzirrh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ebertumo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z. B. Lymphom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epatolipid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640" y="6396840"/>
            <a:ext cx="197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Gregor und Steffi</cp:lastModifiedBy>
  <cp:lastPrinted>1999-05-13T12:26:48Z</cp:lastPrinted>
  <dcterms:modified xsi:type="dcterms:W3CDTF">2008-10-17T16:41:09Z</dcterms:modified>
  <cp:revision>328</cp:revision>
  <dc:subject/>
  <dc:title>Vorstellung einer Neuheit</dc:title>
</cp:coreProperties>
</file>